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  <p:sldId id="299" r:id="rId70"/>
    <p:sldId id="300" r:id="rId71"/>
    <p:sldId id="301" r:id="rId72"/>
    <p:sldId id="302" r:id="rId73"/>
    <p:sldId id="303" r:id="rId74"/>
    <p:sldId id="304" r:id="rId75"/>
    <p:sldId id="305" r:id="rId76"/>
    <p:sldId id="306" r:id="rId77"/>
    <p:sldId id="307" r:id="rId78"/>
    <p:sldId id="308" r:id="rId79"/>
    <p:sldId id="309" r:id="rId80"/>
    <p:sldId id="310" r:id="rId81"/>
    <p:sldId id="311" r:id="rId82"/>
    <p:sldId id="312" r:id="rId83"/>
    <p:sldId id="313" r:id="rId84"/>
    <p:sldId id="314" r:id="rId85"/>
    <p:sldId id="315" r:id="rId86"/>
    <p:sldId id="316" r:id="rId87"/>
    <p:sldId id="317" r:id="rId88"/>
    <p:sldId id="318" r:id="rId89"/>
    <p:sldId id="319" r:id="rId90"/>
    <p:sldId id="320" r:id="rId91"/>
    <p:sldId id="321" r:id="rId92"/>
    <p:sldId id="322" r:id="rId93"/>
    <p:sldId id="323" r:id="rId94"/>
    <p:sldId id="324" r:id="rId95"/>
    <p:sldId id="325" r:id="rId96"/>
    <p:sldId id="326" r:id="rId97"/>
    <p:sldId id="327" r:id="rId98"/>
    <p:sldId id="328" r:id="rId99"/>
    <p:sldId id="329" r:id="rId100"/>
    <p:sldId id="330" r:id="rId101"/>
    <p:sldId id="331" r:id="rId102"/>
    <p:sldId id="332" r:id="rId103"/>
    <p:sldId id="333" r:id="rId104"/>
    <p:sldId id="334" r:id="rId105"/>
    <p:sldId id="335" r:id="rId106"/>
    <p:sldId id="336" r:id="rId107"/>
    <p:sldId id="337" r:id="rId108"/>
    <p:sldId id="338" r:id="rId109"/>
    <p:sldId id="339" r:id="rId110"/>
    <p:sldId id="340" r:id="rId111"/>
    <p:sldId id="341" r:id="rId112"/>
    <p:sldId id="342" r:id="rId113"/>
    <p:sldId id="343" r:id="rId114"/>
    <p:sldId id="344" r:id="rId1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slide" Target="slides/slide44.xml"/><Relationship Id="rId71" Type="http://schemas.openxmlformats.org/officeDocument/2006/relationships/slide" Target="slides/slide45.xml"/><Relationship Id="rId72" Type="http://schemas.openxmlformats.org/officeDocument/2006/relationships/slide" Target="slides/slide46.xml"/><Relationship Id="rId73" Type="http://schemas.openxmlformats.org/officeDocument/2006/relationships/slide" Target="slides/slide47.xml"/><Relationship Id="rId74" Type="http://schemas.openxmlformats.org/officeDocument/2006/relationships/slide" Target="slides/slide48.xml"/><Relationship Id="rId75" Type="http://schemas.openxmlformats.org/officeDocument/2006/relationships/slide" Target="slides/slide49.xml"/><Relationship Id="rId76" Type="http://schemas.openxmlformats.org/officeDocument/2006/relationships/slide" Target="slides/slide50.xml"/><Relationship Id="rId77" Type="http://schemas.openxmlformats.org/officeDocument/2006/relationships/slide" Target="slides/slide51.xml"/><Relationship Id="rId78" Type="http://schemas.openxmlformats.org/officeDocument/2006/relationships/slide" Target="slides/slide52.xml"/><Relationship Id="rId79" Type="http://schemas.openxmlformats.org/officeDocument/2006/relationships/slide" Target="slides/slide53.xml"/><Relationship Id="rId80" Type="http://schemas.openxmlformats.org/officeDocument/2006/relationships/slide" Target="slides/slide54.xml"/><Relationship Id="rId81" Type="http://schemas.openxmlformats.org/officeDocument/2006/relationships/slide" Target="slides/slide55.xml"/><Relationship Id="rId82" Type="http://schemas.openxmlformats.org/officeDocument/2006/relationships/slide" Target="slides/slide56.xml"/><Relationship Id="rId83" Type="http://schemas.openxmlformats.org/officeDocument/2006/relationships/slide" Target="slides/slide57.xml"/><Relationship Id="rId84" Type="http://schemas.openxmlformats.org/officeDocument/2006/relationships/slide" Target="slides/slide58.xml"/><Relationship Id="rId85" Type="http://schemas.openxmlformats.org/officeDocument/2006/relationships/slide" Target="slides/slide59.xml"/><Relationship Id="rId86" Type="http://schemas.openxmlformats.org/officeDocument/2006/relationships/slide" Target="slides/slide60.xml"/><Relationship Id="rId87" Type="http://schemas.openxmlformats.org/officeDocument/2006/relationships/slide" Target="slides/slide61.xml"/><Relationship Id="rId88" Type="http://schemas.openxmlformats.org/officeDocument/2006/relationships/slide" Target="slides/slide62.xml"/><Relationship Id="rId89" Type="http://schemas.openxmlformats.org/officeDocument/2006/relationships/slide" Target="slides/slide63.xml"/><Relationship Id="rId90" Type="http://schemas.openxmlformats.org/officeDocument/2006/relationships/slide" Target="slides/slide64.xml"/><Relationship Id="rId91" Type="http://schemas.openxmlformats.org/officeDocument/2006/relationships/slide" Target="slides/slide65.xml"/><Relationship Id="rId92" Type="http://schemas.openxmlformats.org/officeDocument/2006/relationships/slide" Target="slides/slide66.xml"/><Relationship Id="rId93" Type="http://schemas.openxmlformats.org/officeDocument/2006/relationships/slide" Target="slides/slide67.xml"/><Relationship Id="rId94" Type="http://schemas.openxmlformats.org/officeDocument/2006/relationships/slide" Target="slides/slide68.xml"/><Relationship Id="rId95" Type="http://schemas.openxmlformats.org/officeDocument/2006/relationships/slide" Target="slides/slide69.xml"/><Relationship Id="rId96" Type="http://schemas.openxmlformats.org/officeDocument/2006/relationships/slide" Target="slides/slide70.xml"/><Relationship Id="rId97" Type="http://schemas.openxmlformats.org/officeDocument/2006/relationships/slide" Target="slides/slide71.xml"/><Relationship Id="rId98" Type="http://schemas.openxmlformats.org/officeDocument/2006/relationships/slide" Target="slides/slide72.xml"/><Relationship Id="rId99" Type="http://schemas.openxmlformats.org/officeDocument/2006/relationships/slide" Target="slides/slide73.xml"/><Relationship Id="rId100" Type="http://schemas.openxmlformats.org/officeDocument/2006/relationships/slide" Target="slides/slide74.xml"/><Relationship Id="rId101" Type="http://schemas.openxmlformats.org/officeDocument/2006/relationships/slide" Target="slides/slide75.xml"/><Relationship Id="rId102" Type="http://schemas.openxmlformats.org/officeDocument/2006/relationships/slide" Target="slides/slide76.xml"/><Relationship Id="rId103" Type="http://schemas.openxmlformats.org/officeDocument/2006/relationships/slide" Target="slides/slide77.xml"/><Relationship Id="rId104" Type="http://schemas.openxmlformats.org/officeDocument/2006/relationships/slide" Target="slides/slide78.xml"/><Relationship Id="rId105" Type="http://schemas.openxmlformats.org/officeDocument/2006/relationships/slide" Target="slides/slide79.xml"/><Relationship Id="rId106" Type="http://schemas.openxmlformats.org/officeDocument/2006/relationships/slide" Target="slides/slide80.xml"/><Relationship Id="rId107" Type="http://schemas.openxmlformats.org/officeDocument/2006/relationships/slide" Target="slides/slide81.xml"/><Relationship Id="rId108" Type="http://schemas.openxmlformats.org/officeDocument/2006/relationships/slide" Target="slides/slide82.xml"/><Relationship Id="rId109" Type="http://schemas.openxmlformats.org/officeDocument/2006/relationships/slide" Target="slides/slide83.xml"/><Relationship Id="rId110" Type="http://schemas.openxmlformats.org/officeDocument/2006/relationships/slide" Target="slides/slide84.xml"/><Relationship Id="rId111" Type="http://schemas.openxmlformats.org/officeDocument/2006/relationships/slide" Target="slides/slide85.xml"/><Relationship Id="rId112" Type="http://schemas.openxmlformats.org/officeDocument/2006/relationships/slide" Target="slides/slide86.xml"/><Relationship Id="rId113" Type="http://schemas.openxmlformats.org/officeDocument/2006/relationships/slide" Target="slides/slide87.xml"/><Relationship Id="rId114" Type="http://schemas.openxmlformats.org/officeDocument/2006/relationships/slide" Target="slides/slide88.xml"/><Relationship Id="rId115" Type="http://schemas.openxmlformats.org/officeDocument/2006/relationships/slide" Target="slides/slide89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ldNum" idx="2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82E9B-260D-4EA3-BFAE-B58D6554EE9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84C84-7BF1-42E4-B1DD-B2CB8BBC60E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380E5-A259-4ABB-BE11-01E5AF33AAF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5B192-94B4-4038-ABF6-F3340B61544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4AB5F-98EA-43BD-BE3A-A509AD22A02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20B57-A9DE-4DDC-A4B2-BAD5CF6162E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15744-201F-400A-8685-1B07A6B0A0A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5D2DF-809C-482A-82DC-DB4294A6E8C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5CE8C-99ED-406A-B6A4-B0ACF8FCEA7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4E45E-8F59-48A7-8159-886EDEA3570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2DC10-C86C-4BC0-9054-958BB8916EB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F398A-3303-4407-9C36-6F0525C5857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2EED9-DE00-4145-9DF0-7E18209C589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C9E5E-4EB1-4A40-9816-F24EC9DE92C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8FDF5-4438-4486-825B-B418A195A5D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7BD43-D920-4B36-953B-A7BEBA908A7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F9255-3844-44DC-B2EC-130C4D4B275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1EFE1-81AF-4AF0-B1DC-51CE0EC1BE5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2C5B2-E400-451C-8CBD-42A7200FA7E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77F11-EF6C-4A5A-85A9-C6A2649C0C4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53AC-5204-46D6-8CD6-EFDB459AD7F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0DAE5-677D-4490-B200-1B20E1EAB92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1C944-5044-4782-9796-1335EBA579B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390CE-50D1-4F8E-9593-4868C6DEB95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D3DD2-285B-40F4-92DB-2CC37987408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84982-CEFB-4775-A9E9-1CABB398036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7AE88-A130-4937-9812-9669AA1CBC0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D79F0-0127-4487-81D2-CDF0DC6630E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0E6F5-3109-40B1-AEC7-3B62F204E9D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316D5-39DC-4394-95B5-DF5B067E13A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6620-AFC0-484F-A12D-21FAF699773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BBAE3-E0DC-48CF-9321-8BC0C3D72B0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666CB-133B-422A-9D97-EF54092A5D0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8A382-2E19-4734-A9B9-E919BF4554C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914A8-09D9-412B-A2F1-AC072BB2A94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17270-AEBA-49D5-AEB3-3A8E11C7ED9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9947-9A9B-4D9A-A980-A9BF28B0917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6CA56-9ED8-44AD-AD7F-5C101220C18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5825B-77B6-4CCE-B03B-F8E1DA62C56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73715-4117-47D0-9FD1-70725B2FDDF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931ED-8EAB-4627-83D0-51E62144E00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C027E-F45F-4D55-A157-6561F124E73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9E8E7-B2F2-482D-8E40-3422BF6788C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4A167-B88C-4277-BDC5-9194B981F6F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D6C2-0636-4E14-ADDB-AC69A9B44B6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7D2AC-5CC9-40B0-BEE0-3E3F147A7DD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59EB1-486E-438C-B8F2-7A79A545040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F3C25-BF63-486D-8299-D2E007A430C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7B230-CAEB-4043-B0FC-A97F016CCE3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2E657-C8F2-4BD2-B82D-1CD6C12CEDD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20A38-06AD-4EB9-A05E-A5A26C8421E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C3469-7192-4F9F-851B-10AFEB7AC81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F9E1F-45D0-4F46-A521-B144B72BACF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17EA0-3695-4150-9634-620BBBAF265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D9C50-237A-440F-83F2-9C75631689F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F31D6-BBC2-44C7-AB68-534B801A0FB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998DC-00FE-47B3-8643-18D22D6C280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86EF2-80FA-459E-A7CD-69140B80FEF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1BD10-7B56-4281-A7EE-662A468739B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B6200-FCA7-49F0-B157-727607EB7E2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6E421-D42A-4AD1-AF5C-5DC22E9CFED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815EF-65C8-40B6-ACC6-FE976B6636E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EA85E-719C-447F-A37F-1799A25B679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0EAF9-DC87-4417-BF23-5A0C6051538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98D56-8601-45DE-9B44-4B1C9E57BA7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E5FD1-FBAF-46E8-B809-4A607D1F758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CA528-E53A-41FB-B0F2-9E3BD7F6CB5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71171-88D1-4CC1-B739-B127DB8AE52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B01E0-F8C2-48B0-8B09-A8713B718EE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8CAC2-81E1-44E0-8B43-3C4ED162B20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15ACC-6855-43C3-8C21-6ABD18B0C86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25726-45A9-4D55-9205-1533703AC4F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70E6B-C58E-4CCB-B041-A1FF806801E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7E941-71A6-44D2-8720-A721A6EEE82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B925-ADB0-417D-88F7-9EBD75435DA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26F0C-BF31-455A-B2E4-ADE2A642453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3E980-39E7-4A1F-B761-FDF47B11082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F2C5D-EDCF-4EE4-A985-7B08B969B6A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AA625-DACB-4E8F-BAC7-0FA7F291115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5D433-4E0B-46CD-94B4-247B92E66C0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0277F-B9F4-4511-B0C5-7CF872DB765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1896-BD70-4DE3-A88D-E3E2E915DFC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0F2D6-EEB7-482C-9159-8BF2D2986AB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62859-A715-46BB-9F29-A0AC38C972C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790C8-4453-49B9-92B5-F6A9B4E73D3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C4079-37F1-4691-9B7B-481CAB2618B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51A6-CCF2-46D3-9EB4-69949BC5FDC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077E2-7464-4D19-8CF9-A7B11CC00E4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777D-D420-4C62-906C-DE7194A577B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0C3FC-EB75-43AE-B2D7-535E23435D3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5546-8A68-4A37-8004-5F2065BB4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7EEC-940C-4A82-8AFA-9CB4D428C43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2D71-C568-4E19-8BEA-DF3A5AA5D2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AD70-1FC6-4D8B-867A-15A065415E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B50E-6CE1-4F03-A6D2-26804FABBF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BC55-C9DB-4D8C-99DC-FE87BFF43C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2A65-B2EA-4E6E-8384-AAFCD35156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0146-2023-4590-BAC5-5100C84597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B80B-C64E-4068-BC30-1E735B50E9F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3E9E-9E78-4CE3-9E2D-DCDE1ED440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BD94-6D6D-46BC-96C7-336C28DA5A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846E8-2BBB-45B9-9B34-CF95B569D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B426-9BD4-4B28-B4D0-807F251238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F0B4D-9E56-4F7B-BC83-71AB6555068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A4380-B601-41BA-AC46-3DEE1B947F5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9433B-7957-43E6-BBC0-6EABA5829C3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0CE52-82CC-434A-A29F-AA12ABBA811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04415-E698-422A-8F80-3FAAA1EAC6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E7666-6636-4FD8-B61A-AAED8DD502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848EC-6A6A-4AD9-81E9-1805FDD8A9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5CF52-F67D-422F-955D-FA7B14A80D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3E8CF-0689-45A8-A594-0C6EA5F1E9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F8ADF-A4CE-4ED9-B7A2-FB9307BEE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8DD4-6D6B-4C2F-8C88-37B267E477F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21684-79C1-4F7B-BD7A-D83BA3C316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195E7-A2CB-4185-B176-ED863419C65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CD8F4-D7F6-41F9-A4DE-840CC8CAD9A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4A77B-E538-45F0-883C-3F980E17CC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5AF2C-5266-4542-8E98-42FFB8D56BE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55F76-D0E6-4243-8DF3-4738030F28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C9115-79E4-4002-ACF1-DF3626200C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0D531-3220-429B-B424-2894F49024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6BDE6-5971-4B45-8327-65AAABDACBA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469A3-8030-4DC7-83F5-43916C31B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113F-B11C-45B5-9C74-7ADE6BEFC19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6E56B-EA00-4698-9D15-022102CF08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687DA-8957-40C1-9422-DF0000CCAAC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0B5A6-E323-4965-ACD4-E1BE15FB77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F7F5-2CA7-462E-99C0-2C0BBBE3EC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5523-58CC-4B07-B94B-CD85D831953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0349-3BA0-4CEE-A757-9FDDCC069D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70BF-C52B-4176-A1E6-2A171DDF46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EAD5F-93BE-4A02-9757-C5017B299D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B7FF-E597-413B-852E-F3FDAD1842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B6CD-CDFD-42B0-A146-8789C16CB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2CA2-296B-4B27-AAE8-E97E2F13E8C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0B2B-D5A4-424D-8CEB-6599AB456F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870C-898C-4803-8E92-CEBC95F35C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9FA7-A026-4507-A0F4-7145B97A1CF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0206-03C0-4209-A3C7-87C9668032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C1E62-ED12-4A27-911A-1B9BE6A825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36D50-A10A-4451-9BF8-F9016094B5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F7CE2-3EC8-4D8B-8797-FF8345BB0E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8D0CF-EEBF-4802-AA59-A7E9B3367C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15397-A01F-429D-AE3C-948CC61405B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326D23-F73A-44A7-8AC3-93B00303C6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6706-9134-4C6D-B7D3-D104A2F9F0D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AC74AE-BE41-47A7-AA33-7E258F1D2D4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354B3-D090-4EFC-9697-A295F1A75A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3255C9-3ABC-4581-9CD8-5E25088022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C0C48-6D4E-4718-8B22-49FE2655756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1B6E07-701C-4994-9FBE-F0BF8A910D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06364-3765-4DDC-946E-E174A218FCB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24CD9-56A3-4B90-B78E-478B05CFFD1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007C6-5BD4-4A79-849E-3D0DD4A02C5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20A52-2630-4973-87C4-C9B805740DF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EF7F5-C6D8-496C-8606-E2C45F11FC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2F1F-04C3-44C0-9F90-812A9A8081A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4D156-E4E2-433E-8559-28CB64D2C1A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C3ACB-5EDA-478B-BB0F-F654F434C1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402C4-ABA1-4BAF-A395-A07F49486E2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EFBB8-0B0B-4A0C-BBF0-8897A5207D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24329-A763-40AE-AD92-66485BB45E5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48D6D-EFB8-45F3-BC7E-CD82AD5256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03520-DFEC-4E1A-9897-179D315994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F524D-5202-4258-A9BC-91B12039139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D77E4-8167-4F19-A663-613F30F5E0C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F0C4-9E5E-4BFF-826B-FC21B71FD9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881E-4D3B-46E3-BAB8-4C7E84ADA07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2C4A-9135-47F4-B22E-9212A206D7C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7421-A87A-4F72-A4F2-55765AD900C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BE95-B8B7-4B7B-B0CA-90D9D764007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25EB-A7B8-4857-90A1-4491FA70F36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4097-18EA-4CF1-B9D8-2B0C1009B2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45F18-47FF-4786-A61D-36E69CE0374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CFA42-CE8B-42B9-B8F3-74A42D1D0D7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F0A4-5528-47CF-B2FE-232DDDAFB35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2F4E-2BDB-41A1-A221-3959FBEFEEF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E887-5E8E-4D57-8E2E-D0816C27E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836D-8BA2-4129-B1FA-771585008DD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3931-5D26-4CEA-BF8F-DB10A7EDAA1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BC48AE-6F5B-43C7-991E-62D0871278E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C3102-4651-42E9-AD7A-193C39FFD62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AE846-5D20-4AA2-87E8-DD3E8B13835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3449B-79D2-4571-8E5D-5AFB95D3AF3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71883-9221-4B26-9A6B-654C2A40BD3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E2478-C7FB-4707-89CE-E856CBAFFA2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02FA8-34C3-4F94-89DD-F8780CEDFDF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A13F4-78AB-499D-98E9-1E2C1DD8D09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C730E3-C4BC-4BFC-9D70-4168C81C5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D0CE-DFA0-4F60-B0AE-B9BAE09028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BFBA4-DFDE-40E5-BF54-F98CAF13FB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6CA7F-F81C-41C8-A169-8755EA91C6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B4327-B75E-4383-812D-E11FFD1790F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CC181-BAA1-41F4-B172-62D4228D39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4DD36-9C3F-4F2E-A286-75E13B9982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3085B-CBA2-4C11-BC59-9C0AA2D12F4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DD162-D657-4E9C-B31A-B4AC480439D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50ACA-BB40-4137-9BEF-1B292F67330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96545-B014-4F2E-82A6-1A13217B4FC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F9847-0F65-486E-9B24-DAF22221F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B5D7-AED5-44FC-98FA-6AFCAD35D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2B40-2EB6-4B04-A90B-E404F480353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BF1FE-2B83-45EB-AA97-150F6EA6844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06F82-D96E-4B1B-BD90-0D43FAB0D2B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56F66-93CC-47E8-A9AE-941632604B5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F578D-A4EB-4811-85FB-CA45139D4FB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087D8-BC6E-4331-B50C-CEBEAD4CCA9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C9D3-1A93-44FE-BFD9-ED6C97F47A4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9D69-F8CA-4565-99D4-4BB5A8752E8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E67D2-2720-4D86-AE31-4404A495B94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378AB-5D95-48AC-A470-993FA0E1CB9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B9355-D98B-4407-A9E6-0E0B51C8BC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6E62-CA95-4211-AA1C-3104136E2D5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E1772-6189-4DC5-9455-C6FA75A8586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0C35-F213-4FF8-9CD1-D20F18714A5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F87E4-F8E4-415C-AC21-E97DF27C95C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C2C3-9AB4-4773-A383-4406A79A109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EE128-4F1A-40CC-9F34-117EE37FBC1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CB98-6A8C-4F37-87E0-6A3BDC6160D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6CA0F-E066-45EB-911A-96D7BAB5808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2043A8-11BE-43DA-9751-2D0A2C05E55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24E68F-5870-4B67-9965-DFEFCECA394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738EDE-32A6-4F8D-A8AE-5CAFDED344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3750-B99E-4F51-88F1-3A7D6DE9E87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A4F1B6-1A45-4928-8BE4-8556B6755AE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78BD15-2060-4ACF-B18F-307E0B21BD2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4FF00-F6D1-4175-8872-22B78E12FDF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C06158-208C-4F0E-884A-7CE4A5C13EC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173A32-EE6B-4DA6-9B61-B83AF8B8647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F13BD-F224-4EE8-919F-D5EDD7F25FD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2B3FC2-4049-4A00-93FD-B24C2E72240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AF648B-CCD2-4CAD-A281-B98E737C072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F9F743-42C3-4147-88BC-9A5691C6831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A8957-74EB-4D7A-BEFF-C19A87238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0426-CC17-4690-A2E5-F9DE175D875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BFBAD-15B6-4871-B83C-F5516C41AC1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28EDB-0F9F-4E0D-A235-2B364F4ABB2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B5C86-6098-4FCF-B711-8CAD8308191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7A5D0-D7E7-444C-BC9C-521738D2BFF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44EE8-BCBB-410F-B634-F405E0E619D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C3C07-CCBB-48D7-9C85-A0488933C06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C1EE1-A80C-4155-B1A9-7EDBC50B521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43729-594E-4D22-99E8-1D4908B1D66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93AB4-8629-4D87-A137-A7DF51797B4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4F7BC-4F91-4401-9069-F50971FBD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624A-7E30-4FD9-8BB2-74A8C8DCAFF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3E4D6-46FE-4F07-B0B4-4E0A768A173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8C0CE-F5F0-4029-B26F-F34E1073102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51A6-F2E3-4AA4-B1B0-91618111217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80CE-446D-4752-BA24-C32891768FF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615D-565E-4B4A-AAD9-53EF0219EE3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6B01-9205-4502-B524-B749888D056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02DB-72A4-4C41-A403-3FA33847417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45BB-FDBA-48AD-868C-7A61D8F4241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370DF-DDB5-4D11-81FD-C31E4B63390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E41D-1E72-443F-8402-7B2D741264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488-461B-489A-AD6A-CAACC5C9250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2ADF0-41C0-4655-9EA8-15A81A78724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3318-7D90-4A85-9661-DF8B031D82F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0D06-3C84-4879-A908-F6AB41DE737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72CE61-8DA9-4EB4-8E1D-F839F6AF3B8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9D09C0-3C4D-49C1-934E-F5BA8449105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C3DA37-67A2-4A1E-9CBE-088227C0264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666CF8-B73E-4F4F-A594-84101110F1B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C831DA-0FD9-44FF-B5ED-A5C48D2C8AA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A31D9-BEA8-4BB0-9774-CB7663C0C11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CE7FC5-1C4D-453B-9D6B-2B3B3ABAB3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B09-08F5-4482-B083-B7495DC323E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16543-B83A-47D8-8E87-C57D16CE26D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F0DD4E-C0A5-43B1-8C13-215E155A608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32CF4-CB54-4A25-AAE7-1B357C5B519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F07B0D-2EF1-4A32-8DA4-DCC6F63F2D1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3B8C7-B6A0-4988-ABA5-6A5FC517B9E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757E6-7B4B-4F5D-8E1B-DAB5DCB2608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63FF4-26C1-4AF4-B3F1-83A2A3579B1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2B0B7-D19D-49B8-83C4-517FB240ED1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F85E0-46DA-46B5-A5E6-801482AF7BA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1DE0F3-1536-4F07-B3DF-AD78277CE3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A8B-59F4-4A30-9F3C-0056483B872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CB672-4C85-4C30-913D-FDE268068FB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112A5-137E-4794-BEC5-481CF1B1537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87D93-6B8C-4B51-AFBA-0E746600F9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7769B-BE06-46EF-930A-786517D6DFA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F17EE-78D2-491F-A99A-863FC605D03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FF3D27-8F09-41CC-9278-4BC7478F256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F3A5A-6A95-4B3E-98B1-A9E6EFDA404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112DF-D4A5-43FD-AF27-D8A37FAB493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877D-64DC-4CC0-BDD9-898D381357E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0A87-6DC2-48D2-93DA-964DE30980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240-8E33-449B-9C8D-E26BBF14AE6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931B4-F8A7-49B4-8420-5855A002594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0B221-6D34-4DDC-970B-85CCE570A73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68F3B-4AD5-4A84-BA46-0EC39877BCD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0C33-6C63-4C4C-BDB7-50BD3325543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B10EC-0DF4-4E00-B4FA-B6768ABBB4F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1A162-A13A-45A2-874D-F8CA5CE1C43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02247-EDCA-4A9C-AA71-75FCBF1E24B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F446-90E4-4F44-A092-CBC4F213572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AF80-A969-4783-ACCA-D67FA6254D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E26-130F-4CBA-B580-69E92FBAE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D95F-2458-409D-A712-DF4D428FBE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ACC-DDA3-424C-B86D-9C9C21843E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3ED-839E-421C-98AF-5D4B0F827F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152-7F27-45AE-B308-6D95E03E5E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F7C-294E-4BD5-9A1E-010E2C4439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E1F-9204-44E1-9B28-C0EA828B0A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645-86A5-4153-A560-9B5311FA78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09C-02B4-4529-A280-468C67133E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D2D70-D81E-4A2D-BF3F-9BC3D2D872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6167C-E827-4BA1-AEDB-2C7EAD946C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6970-92F3-4EF1-836A-D9A105652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C3C4-EE08-49B9-B788-94DEBCFCEA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EA9B9-5D6A-44A9-8D73-58FAFB18E9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B3E56-A983-47CE-9FFE-C4FF20D690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A7086-A1EA-4B7B-90CA-DB2793A7D8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E2489-6671-4A1F-8E5D-38AFCAD592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97BE-CC7E-4131-9239-ECD8696A79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72210-90E0-4AAA-91B6-C96DD3B065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2ABA1-D2BB-4643-80AA-3D04C0CEA1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E7D97-99AD-4983-A53F-496DDC2219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40563-E08A-4B8E-8392-A7ACA4EE16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05862-9824-4302-A43E-543B4D274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DDED-5157-48DE-9E05-7B3EA692E4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1353-1190-410C-902F-D42F55F9B5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41C29-D4BB-4FF7-B2F1-8714B65312C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C423B-E164-4AD2-A23D-2672CF85A1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0F547-CC84-46B4-97A2-5D64A1DA60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06F5B-CD08-48DD-BD36-DE74ADDA50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2F250-C4D3-43AC-AB80-58A69BFC24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E18D-5FFF-4424-9BBB-0076BDD4B2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897B-AF61-47B1-A1A4-F64717A0F9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BC83B-A22C-4BED-A1B8-D1D502A374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6AA70-9DF2-42B7-B007-5F3C46445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D4A6-FF2D-4618-829C-3E33F0C3C6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73142-2AFE-4B10-BCED-7174ECF0B1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85B-12EB-419A-B55C-20AF3FB178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49B-3939-4E17-A650-7AFB2355DE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4C4E-9382-4021-9F34-028E7E75FE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1317-BCDA-48E2-9D4E-C82D5B931F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A8B-F4A9-4D1F-AD60-5C94DE4187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29C-17AD-4FBC-8412-82FF5D198B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2728-2EF6-4278-9D5F-9DBFA479EA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20B3-53F3-4511-8E0A-233F498A92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882-677C-4A0E-92DA-2197D2506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1F8C-E376-42F7-9542-4B7624F2F0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4C3C-596D-4D61-80BD-48E4DDB5C6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ECF-83BC-4F0C-848F-30343BFE99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33A-F222-419E-A130-19B7C9451A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FC703-2205-407C-8D78-ECA2BC3FB12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EE853-2854-4477-8DD2-3B92825FA3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32A65-355A-468B-B84E-5457A3C253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6EE60-4F6B-47E2-9964-FCF5CA9EA7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B823D-54D4-4440-8CA2-F842663474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91696-34F1-4144-951E-E69241A892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C8F47-404E-4025-94DF-168BEEC40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1889-CB73-42C0-87FC-74DA1D6B0A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553F4-9A05-4EC1-8F3C-E223F0E86B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6BBAA-A50C-4986-8CF4-F805314FDF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F83AA-392F-4FA6-877C-FF53966D78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6BC01-5CE4-4A2F-B564-786DA80C1D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98646-AE8C-4BB5-A26A-D28A7B4FA1B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E3194-E542-436C-9D8D-169F1AD376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12A3E-90C5-42A2-A3D1-91708DAF219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92F83-7DE1-4C27-BE04-57CD6F4B42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D8B6D-BC57-4C5E-BAF7-F58600834A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1407E-EFCB-4CDE-B591-C1DD28BE2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70B9-72CB-4A28-BEEB-FBFFE6B495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0656A-B4E2-4E29-A2D0-E67F0D529A0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2043A-A746-4460-B9BA-41F32BD8B89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D5135-3CDA-40C8-82FD-1761E3F77C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A4659-DF8D-4C39-946E-467DEC1E6F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ACF5C-F8F4-4324-A5F6-2BBA036FF0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4DF63-6E5E-432B-B829-690192B002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377E4-A544-4523-B0C5-DCE36E4C2E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C37E-FFEC-4E36-AE0F-72113598FD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FDA2-097C-471C-AB40-A44FEFB7B1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2640-96A9-4A9C-954D-DDCCAB468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BBE198D-846A-4F71-B045-88E1CF06C52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30000" y="342720"/>
            <a:ext cx="2948040" cy="119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87640" y="741240"/>
            <a:ext cx="4629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30000" y="1542960"/>
            <a:ext cx="294804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10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A02EE23-BB76-4E8E-B551-3A574B2E6C4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ED270C9-B938-4C07-BC06-55F398DEBAA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29040" y="1203120"/>
            <a:ext cx="2055960" cy="298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203120"/>
            <a:ext cx="60181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D6AF11-2F26-46C5-B747-66A9DDF9F1F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Num" idx="13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52C162-E063-42AA-AC2C-7EE2A51072B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841320"/>
            <a:ext cx="6856560" cy="179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Num" idx="14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FC5EDCA-0A4D-4706-910A-FA36392A57D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1203480"/>
            <a:ext cx="822960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Num" idx="15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C2EAC0D-8008-434F-8476-9C011E93EA6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3520" y="1282680"/>
            <a:ext cx="7885080" cy="2138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23520" y="3443400"/>
            <a:ext cx="78850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6000"/>
          </a:bodyPr>
          <a:p>
            <a:pPr marL="889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6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5EBA194-4107-4159-9E39-07A9BF3C5D6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1203480"/>
            <a:ext cx="40384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48320" y="1203480"/>
            <a:ext cx="40384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ldNum" idx="17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0195D1-BB67-49B8-A196-BD1F62FCFD3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30000" y="274680"/>
            <a:ext cx="7885080" cy="992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30360" y="1260360"/>
            <a:ext cx="38671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14000"/>
          </a:bodyPr>
          <a:p>
            <a:pPr marL="478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30360" y="1879560"/>
            <a:ext cx="38685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29240" y="1879560"/>
            <a:ext cx="38876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8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CDABCDF-E34F-4F03-A62B-255F13B8C6E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ldNum" idx="19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B83498-4626-48F6-B671-E20EA65A5FE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841320"/>
            <a:ext cx="6856560" cy="179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2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FCF199A-A5B9-4403-A514-4577BDC7412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Num" idx="20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A42C5DC-1491-4FE7-BA98-B7EA9B5D96F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30000" y="342720"/>
            <a:ext cx="2948040" cy="119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887640" y="741240"/>
            <a:ext cx="4629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30000" y="1542960"/>
            <a:ext cx="294804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2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CD20E4D-3F66-45A8-84AE-C1F5C4C117A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30000" y="342720"/>
            <a:ext cx="2948040" cy="119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87640" y="741240"/>
            <a:ext cx="4629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30000" y="1542960"/>
            <a:ext cx="294804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22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28CD99-B23C-44FA-BA7B-9CD08B31492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sldNum" idx="23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078DC5-76A6-4DC2-AE31-865522ED3B1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629040" y="1203120"/>
            <a:ext cx="2055960" cy="298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6840" y="1203120"/>
            <a:ext cx="60181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24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4CE726-9340-4D0B-B1EA-79009DC5ED5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686480"/>
            <a:ext cx="213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203480"/>
            <a:ext cx="822960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C474C0-9397-4AD4-B0F0-222A243EFF9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3520" y="1282680"/>
            <a:ext cx="7885080" cy="2138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23520" y="3443400"/>
            <a:ext cx="78850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6000"/>
          </a:bodyPr>
          <a:p>
            <a:pPr marL="889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8920" indent="-889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4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1F6F9BC-247D-465D-8F88-9B1986FFA2A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203480"/>
            <a:ext cx="40384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03480"/>
            <a:ext cx="403848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5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FBA2BAC-3CBA-4D5A-892B-526A0793235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0000" y="274680"/>
            <a:ext cx="7885080" cy="992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30360" y="1260360"/>
            <a:ext cx="38671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14000"/>
          </a:bodyPr>
          <a:p>
            <a:pPr marL="478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7880" indent="-478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360" y="1879560"/>
            <a:ext cx="38685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29240" y="1879560"/>
            <a:ext cx="38876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1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927B17-22CF-441B-A643-42F463819E7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7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6263E90-5AAC-4591-BD27-C73247CE491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Num" idx="8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F99CBAE-C079-4DEF-BA6B-73DCADCF0CC6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30000" y="342720"/>
            <a:ext cx="2948040" cy="119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7640" y="741240"/>
            <a:ext cx="4629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30000" y="1542960"/>
            <a:ext cx="294804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040" indent="-185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8046893-48D7-4640-A2C3-2B8AEF5DA58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4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2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19378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X 2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0,40 X 1000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1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 X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X 4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2396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X 5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X 6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.0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3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0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6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4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.000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70040" y="4137120"/>
            <a:ext cx="7772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56ad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ATURA</dc:creator>
  <dc:description/>
  <dc:language>en-US</dc:language>
  <cp:lastModifiedBy/>
  <dcterms:modified xsi:type="dcterms:W3CDTF">2016-04-14T08:44:09Z</dcterms:modified>
  <cp:revision>2</cp:revision>
  <dc:subject/>
  <dc:title>Tabla del 4 (1)   Extendida con decimales.</dc:title>
</cp:coreProperties>
</file>